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7.png" ContentType="image/png"/>
  <Override PartName="/ppt/media/image12.png" ContentType="image/png"/>
  <Override PartName="/ppt/media/image6.png" ContentType="image/png"/>
  <Override PartName="/ppt/media/image3.gif" ContentType="image/gi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45BF-6E45-4A7F-9AE7-2F138AC0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A99A-EB7D-4AF9-9A61-16DE53C5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EDA-906A-4F67-B32F-4351CD68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5DC-004C-47D8-82B6-9688DDCF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376-DED2-4C54-BF38-C52D0A83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90B0-F445-41BE-B225-37DD3FAD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AC2-D16B-48B8-8529-D7FD0052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7DD-1544-4DD5-8384-1A0E4DF5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701D-037E-4B52-A857-FF1AA11D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8671-8FC3-4996-9196-1E8C1C83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13A4-28FF-4931-8C6D-A48FCE80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6E93-B6D4-4EAE-A22F-6C21679F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0ADC-D92B-4794-A739-E88C43100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hotosynthesis Review</a:t>
            </a:r>
            <a:br>
              <a:rPr sz="66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pter 8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stroma arrows"/>
          <p:cNvPicPr/>
          <p:nvPr/>
        </p:nvPicPr>
        <p:blipFill>
          <a:blip r:embed="rId1"/>
          <a:srcRect l="0" t="0" r="3448" b="8223"/>
          <a:stretch/>
        </p:blipFill>
        <p:spPr>
          <a:xfrm>
            <a:off x="2286000" y="2971800"/>
            <a:ext cx="4267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nd plants get the carbon dioxide needed for photosynthesis from the 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re do water plants like algae get their 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320" y="1371600"/>
            <a:ext cx="22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28600" y="4568760"/>
            <a:ext cx="952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the high energy electron carrier that picks up electrons and H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ons when water is split.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828800" y="5867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138760" y="3276720"/>
            <a:ext cx="52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rom the water in which they liv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organism is a _____________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troph        heterotroph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193280" y="609480"/>
            <a:ext cx="19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terotroph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06" name="Picture 16" descr="chipmunkseeds"/>
          <p:cNvPicPr/>
          <p:nvPr/>
        </p:nvPicPr>
        <p:blipFill>
          <a:blip r:embed="rId1"/>
          <a:srcRect l="17999" t="28004" r="28001" b="17999"/>
          <a:stretch/>
        </p:blipFill>
        <p:spPr>
          <a:xfrm>
            <a:off x="5105520" y="243828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7"/>
          <p:cNvSpPr/>
          <p:nvPr/>
        </p:nvSpPr>
        <p:spPr>
          <a:xfrm>
            <a:off x="3892680" y="5715000"/>
            <a:ext cx="423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99"/>
                </a:solidFill>
                <a:latin typeface="Times New Roman"/>
              </a:rPr>
              <a:t>Image from: http://www.entm.purdue.edu/wildlife/chipmunk_pictures.htm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251424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the 2 sets of reactions that make up photosynthesi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1 is called  ____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353760" y="4343400"/>
            <a:ext cx="55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ight-Dependent Reaction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48006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#2 is called ________________.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657600" y="4876920"/>
            <a:ext cx="4648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lvin Cycl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or Light-independent Reactions)</a:t>
            </a:r>
            <a:endParaRPr b="0" lang="en-US" sz="20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2" name="AutoShape 16"/>
          <p:cNvSpPr/>
          <p:nvPr/>
        </p:nvSpPr>
        <p:spPr>
          <a:xfrm>
            <a:off x="2362320" y="304920"/>
            <a:ext cx="1828800" cy="799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2362320" y="1600200"/>
            <a:ext cx="1828800" cy="800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4" name="AutoShape 14"/>
          <p:cNvSpPr/>
          <p:nvPr/>
        </p:nvSpPr>
        <p:spPr>
          <a:xfrm>
            <a:off x="685800" y="38088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5" name="AutoShape 13"/>
          <p:cNvSpPr/>
          <p:nvPr/>
        </p:nvSpPr>
        <p:spPr>
          <a:xfrm>
            <a:off x="4267080" y="38088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6" name="AutoShape 12"/>
          <p:cNvSpPr/>
          <p:nvPr/>
        </p:nvSpPr>
        <p:spPr>
          <a:xfrm>
            <a:off x="685800" y="16765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4267080" y="16765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2438280" y="1143000"/>
            <a:ext cx="14860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281952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#1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289548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#2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5943600" y="990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251424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bel the reactants and products for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ght dependent re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1 = 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2 = 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3 = 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29"/>
          <p:cNvSpPr/>
          <p:nvPr/>
        </p:nvSpPr>
        <p:spPr>
          <a:xfrm>
            <a:off x="1523880" y="50292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TP and NADPH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26" name="AutoShape 1030"/>
          <p:cNvSpPr/>
          <p:nvPr/>
        </p:nvSpPr>
        <p:spPr>
          <a:xfrm>
            <a:off x="2362320" y="304920"/>
            <a:ext cx="1981080" cy="799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Light Dependent Reactions</a:t>
            </a:r>
            <a:endParaRPr b="0" lang="en-US" sz="1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27" name="AutoShape 1031"/>
          <p:cNvSpPr/>
          <p:nvPr/>
        </p:nvSpPr>
        <p:spPr>
          <a:xfrm>
            <a:off x="2362320" y="1600200"/>
            <a:ext cx="1828800" cy="800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28" name="AutoShape 1032"/>
          <p:cNvSpPr/>
          <p:nvPr/>
        </p:nvSpPr>
        <p:spPr>
          <a:xfrm>
            <a:off x="685800" y="38088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29" name="AutoShape 1033"/>
          <p:cNvSpPr/>
          <p:nvPr/>
        </p:nvSpPr>
        <p:spPr>
          <a:xfrm>
            <a:off x="4267080" y="38088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30" name="AutoShape 1034"/>
          <p:cNvSpPr/>
          <p:nvPr/>
        </p:nvSpPr>
        <p:spPr>
          <a:xfrm>
            <a:off x="685800" y="16765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31" name="AutoShape 1035"/>
          <p:cNvSpPr/>
          <p:nvPr/>
        </p:nvSpPr>
        <p:spPr>
          <a:xfrm>
            <a:off x="4267080" y="16765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32" name="AutoShape 1036"/>
          <p:cNvSpPr/>
          <p:nvPr/>
        </p:nvSpPr>
        <p:spPr>
          <a:xfrm>
            <a:off x="2438280" y="1143000"/>
            <a:ext cx="14860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33" name="Rectangle 1038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34" name="Rectangle 1039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35" name="Text Box 1040"/>
          <p:cNvSpPr/>
          <p:nvPr/>
        </p:nvSpPr>
        <p:spPr>
          <a:xfrm>
            <a:off x="11430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#1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36" name="Text Box 1041"/>
          <p:cNvSpPr/>
          <p:nvPr/>
        </p:nvSpPr>
        <p:spPr>
          <a:xfrm>
            <a:off x="2895480" y="1066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#2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37" name="Text Box 1042"/>
          <p:cNvSpPr/>
          <p:nvPr/>
        </p:nvSpPr>
        <p:spPr>
          <a:xfrm>
            <a:off x="5943600" y="990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38" name="Rectangle 1043"/>
          <p:cNvSpPr/>
          <p:nvPr/>
        </p:nvSpPr>
        <p:spPr>
          <a:xfrm>
            <a:off x="1522800" y="4343400"/>
            <a:ext cx="47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UNLIGHT and WATER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39" name="Rectangle 1046"/>
          <p:cNvSpPr/>
          <p:nvPr/>
        </p:nvSpPr>
        <p:spPr>
          <a:xfrm>
            <a:off x="4802040" y="45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#3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40" name="Rectangle 1047"/>
          <p:cNvSpPr/>
          <p:nvPr/>
        </p:nvSpPr>
        <p:spPr>
          <a:xfrm>
            <a:off x="2056680" y="5715000"/>
            <a:ext cx="151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32767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bel the reactants and products for the Calvin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1 = 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2 = 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3 = 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28"/>
          <p:cNvSpPr/>
          <p:nvPr/>
        </p:nvSpPr>
        <p:spPr>
          <a:xfrm>
            <a:off x="1828800" y="51055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rbon dioxid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43" name="AutoShape 1029"/>
          <p:cNvSpPr/>
          <p:nvPr/>
        </p:nvSpPr>
        <p:spPr>
          <a:xfrm>
            <a:off x="2362320" y="304920"/>
            <a:ext cx="1828800" cy="799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44" name="AutoShape 1030"/>
          <p:cNvSpPr/>
          <p:nvPr/>
        </p:nvSpPr>
        <p:spPr>
          <a:xfrm>
            <a:off x="2362320" y="1600200"/>
            <a:ext cx="1828800" cy="800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45" name="AutoShape 1031"/>
          <p:cNvSpPr/>
          <p:nvPr/>
        </p:nvSpPr>
        <p:spPr>
          <a:xfrm>
            <a:off x="685800" y="38088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46" name="AutoShape 1032"/>
          <p:cNvSpPr/>
          <p:nvPr/>
        </p:nvSpPr>
        <p:spPr>
          <a:xfrm>
            <a:off x="4267080" y="38088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47" name="AutoShape 1033"/>
          <p:cNvSpPr/>
          <p:nvPr/>
        </p:nvSpPr>
        <p:spPr>
          <a:xfrm>
            <a:off x="685800" y="16765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48" name="AutoShape 1034"/>
          <p:cNvSpPr/>
          <p:nvPr/>
        </p:nvSpPr>
        <p:spPr>
          <a:xfrm>
            <a:off x="4267080" y="16765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49" name="AutoShape 1035"/>
          <p:cNvSpPr/>
          <p:nvPr/>
        </p:nvSpPr>
        <p:spPr>
          <a:xfrm>
            <a:off x="2438280" y="1143000"/>
            <a:ext cx="14860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50" name="Rectangle 1037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51" name="Rectangle 1038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52" name="Text Box 1039"/>
          <p:cNvSpPr/>
          <p:nvPr/>
        </p:nvSpPr>
        <p:spPr>
          <a:xfrm>
            <a:off x="2743200" y="1143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#1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53" name="Text Box 1040"/>
          <p:cNvSpPr/>
          <p:nvPr/>
        </p:nvSpPr>
        <p:spPr>
          <a:xfrm>
            <a:off x="114300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#2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54" name="Text Box 1041"/>
          <p:cNvSpPr/>
          <p:nvPr/>
        </p:nvSpPr>
        <p:spPr>
          <a:xfrm>
            <a:off x="5943600" y="990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55" name="Rectangle 1042"/>
          <p:cNvSpPr/>
          <p:nvPr/>
        </p:nvSpPr>
        <p:spPr>
          <a:xfrm>
            <a:off x="1904400" y="4495680"/>
            <a:ext cx="29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&amp; NADPH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56" name="Rectangle 1043"/>
          <p:cNvSpPr/>
          <p:nvPr/>
        </p:nvSpPr>
        <p:spPr>
          <a:xfrm>
            <a:off x="2442240" y="1600200"/>
            <a:ext cx="124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alvin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YCLE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57" name="Rectangle 1044"/>
          <p:cNvSpPr/>
          <p:nvPr/>
        </p:nvSpPr>
        <p:spPr>
          <a:xfrm>
            <a:off x="4726080" y="1752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#3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58" name="Rectangle 1045"/>
          <p:cNvSpPr/>
          <p:nvPr/>
        </p:nvSpPr>
        <p:spPr>
          <a:xfrm>
            <a:off x="1981080" y="57913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ugar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839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pace surrounding the thylakoids is called the 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600200" y="914400"/>
            <a:ext cx="14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roma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04920" y="1828800"/>
            <a:ext cx="883908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ks of thylakoids are called  ________.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were talking about only one of thes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would call it a ______________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in photosynthetic pigment in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plants = ___________________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629400" y="1828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ran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4269240" y="353052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ranum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734640" y="518148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lorophyll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lusters of proteins in the thylakoid membrane that collect light are called 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does the Calvin cycle happ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protein that helps chemical reac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ppen faster in living things is called an 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192920" y="1397160"/>
            <a:ext cx="396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OTOSYSTEM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904400" y="348300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the stroma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602720" y="5334120"/>
            <a:ext cx="181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nzyme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alvin cycle requires l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33520" y="20574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ALSE: It is light INDEPENDENT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990720" y="35053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ght-Dependent Reactions break apart ________ and give off  _______ gas.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295280" y="411480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486040" y="4114800"/>
            <a:ext cx="14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stack of membrane sacs is called a 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part of photosynthesis happens he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753920" y="251460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ranum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835560" y="5029200"/>
            <a:ext cx="47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ght dependent reaction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77" name="Picture 6" descr="thylakoids"/>
          <p:cNvPicPr/>
          <p:nvPr/>
        </p:nvPicPr>
        <p:blipFill>
          <a:blip r:embed="rId1"/>
          <a:stretch/>
        </p:blipFill>
        <p:spPr>
          <a:xfrm>
            <a:off x="228600" y="228600"/>
            <a:ext cx="2286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space around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ana is c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part of photosynthesis happens he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068480" y="16765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roma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132640" y="3886200"/>
            <a:ext cx="22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lvin cycl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81" name="Picture 6" descr="stroma arrows"/>
          <p:cNvPicPr/>
          <p:nvPr/>
        </p:nvPicPr>
        <p:blipFill>
          <a:blip r:embed="rId1"/>
          <a:srcRect l="0" t="0" r="3448" b="8223"/>
          <a:stretch/>
        </p:blipFill>
        <p:spPr>
          <a:xfrm>
            <a:off x="4648320" y="685800"/>
            <a:ext cx="4267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nts 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ok gree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ecause the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 green wavelengths of l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bsorb          refl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917280" y="83808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flect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04920" y="34765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synthesis in plants takes place 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side which organelle?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895480" y="48006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loroplast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t pigments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orange or ye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tead of gr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organism that can make its own food like a green plant is called 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87240" y="304920"/>
            <a:ext cx="25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rotenoid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839160" y="4952880"/>
            <a:ext cx="21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utotroph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85" name="Picture 6" descr="carrots_d"/>
          <p:cNvPicPr/>
          <p:nvPr/>
        </p:nvPicPr>
        <p:blipFill>
          <a:blip r:embed="rId1"/>
          <a:stretch/>
        </p:blipFill>
        <p:spPr>
          <a:xfrm>
            <a:off x="5867280" y="30492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5357880" y="0"/>
            <a:ext cx="378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rnzih.org.nz/images/gardenimages/carrots_d.jpg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lecules that interact in a chemical reaction that are written on the left side of a chemical equation are called 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organism that CAN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 make its own food and must get its energy from consuming other org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221120" y="205740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actant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2745000" y="510552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terotroph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057400" y="54896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ctions of photosynthesis that use light energy to produce ATP and NAD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rge protein in the thylakoid membrane that uses energy from H+ ions to join ADP and a phosphate group to make A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525320" y="2286000"/>
            <a:ext cx="53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ight-dependent reaction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058480" y="54896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TP synthas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organism like a green plant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make its own foo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lecule made of ribose, adenine, and 3 phosphates used by living things to store and release energ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297080" y="1676520"/>
            <a:ext cx="31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UTOTROPH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726440" y="4724280"/>
            <a:ext cx="11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igments that are yellow or orange not gr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usters of light collec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teins found in the thylako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mbr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ace surrounding the thylako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ide a chloropl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3354480" y="1219320"/>
            <a:ext cx="24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rotenoid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344120" y="3581280"/>
            <a:ext cx="27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otosystem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594540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roma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cess by which plants and some other organisms use sunlight to convert water and carbon dioxide (CO2) into oxygen (O2) and high energy carbohyd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ck of thylakoid membran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2744640" y="3124080"/>
            <a:ext cx="439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134080" y="5334120"/>
            <a:ext cx="49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RANUM (pl. GRANA)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hange in shape of a protein at extremes of temperature or 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 carbon sugar molecule tha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ain product of photosynthesis and is used as the fuel burned by ce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906200" y="1600200"/>
            <a:ext cx="23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enaturing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364120" y="495288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lucos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ctions of photosynthesis in which energy from ATP and NADPH is used to build high energy sugar molec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egatively charged particle found circling the nucleus of an at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221840" y="1981080"/>
            <a:ext cx="25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lvin cycl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905120" y="34322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440800" y="495288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lectron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sitively charged particle found in the nucleus of an at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ell organelle containing thylakoid stacks where photosynthesis happ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which part of photosynthesis is oxygen produc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2058840" y="152388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ton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897640" y="342900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loroplast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58840" y="5489640"/>
            <a:ext cx="53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ight-dependent reaction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ticle without an electric ch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in the nucleus of a 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s that have gained or lost electrons so they have an electric ch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vement of molecules from higher concentration to lower concentration until equilibrium is reach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982520" y="160020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eutron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201480" y="365760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ON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325560" y="548640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ffusion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carefully measured the seed, water , and soil and concluded that the increase in mass of the plant came from w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603440" y="1752480"/>
            <a:ext cx="390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Jan van Helmont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3733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371600" y="54864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Joseph  Priestly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34360" y="4267080"/>
            <a:ext cx="747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 knew that a plant in a bell jar 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ould generate 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ood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air.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 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4724280" y="4037760"/>
            <a:ext cx="416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nofretete-page.de/gemischtNeu/TN_plant_grow_w.JPG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53" name="Picture 12" descr="priestley lens"/>
          <p:cNvPicPr/>
          <p:nvPr/>
        </p:nvPicPr>
        <p:blipFill>
          <a:blip r:embed="rId1"/>
          <a:stretch/>
        </p:blipFill>
        <p:spPr>
          <a:xfrm>
            <a:off x="6477120" y="5181480"/>
            <a:ext cx="2019240" cy="14065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3"/>
          <p:cNvSpPr/>
          <p:nvPr/>
        </p:nvSpPr>
        <p:spPr>
          <a:xfrm>
            <a:off x="2895480" y="6248520"/>
            <a:ext cx="3429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Times New Roman"/>
              </a:rPr>
              <a:t>http://www2.nsta.org/Energy/find/primer/primer2_8.html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55" name="Picture 8" descr="plant_grow_w"/>
          <p:cNvPicPr/>
          <p:nvPr/>
        </p:nvPicPr>
        <p:blipFill>
          <a:blip r:embed="rId2"/>
          <a:stretch/>
        </p:blipFill>
        <p:spPr>
          <a:xfrm>
            <a:off x="7086600" y="1905120"/>
            <a:ext cx="9604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lecules that are produced during a chemical reaction that are written on the right side of a chemical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gh energy electron carrier which receives electrons and H+ ions when water splits during the light dependent re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27"/>
          <p:cNvSpPr/>
          <p:nvPr/>
        </p:nvSpPr>
        <p:spPr>
          <a:xfrm>
            <a:off x="2667960" y="220968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duct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21" name="Rectangle 1028"/>
          <p:cNvSpPr/>
          <p:nvPr/>
        </p:nvSpPr>
        <p:spPr>
          <a:xfrm>
            <a:off x="1905120" y="34322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22" name="Rectangle 1029"/>
          <p:cNvSpPr/>
          <p:nvPr/>
        </p:nvSpPr>
        <p:spPr>
          <a:xfrm>
            <a:off x="2069640" y="548964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fference in concentration in one place compared to 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oup of membrane proteins that transfers electrons between Photosystem II and I during the light-dependent reaction of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027"/>
          <p:cNvSpPr/>
          <p:nvPr/>
        </p:nvSpPr>
        <p:spPr>
          <a:xfrm>
            <a:off x="1373400" y="1676520"/>
            <a:ext cx="47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centration gradient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85800" y="5791320"/>
            <a:ext cx="732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LECTRON TRANSPORT CHAIN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28600" y="3048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bel molecules of the light dependent reac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 =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 =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 =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292760" y="4800600"/>
            <a:ext cx="472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lectron Transport Chai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523880" y="4267080"/>
            <a:ext cx="374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HOTOSYSTEM II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447560" y="5486400"/>
            <a:ext cx="35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HOTOSYSTEM I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1523520" y="60199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Synthas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231" name="Picture 11" descr="light depend color letters"/>
          <p:cNvPicPr/>
          <p:nvPr/>
        </p:nvPicPr>
        <p:blipFill>
          <a:blip r:embed="rId1"/>
          <a:stretch/>
        </p:blipFill>
        <p:spPr>
          <a:xfrm>
            <a:off x="990720" y="228600"/>
            <a:ext cx="7589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ion moves across the membrane to power the ATP synthase enzyme to add a phosphate to AD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do the  carbon atoms come from that end up in carbohydrates made by the Calvin cyc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gas that we need is given 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uring photosynthes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65800" y="2209680"/>
            <a:ext cx="40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36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(Hydrogen ion)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449360" y="4521240"/>
            <a:ext cx="32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rbon dioxid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5714640" y="5943600"/>
            <a:ext cx="14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do H+ ions build up as water is broken down and the light dependent reactions are happen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to does the ATP and NADPH produced during the light-dependent phase end u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449360" y="2057400"/>
            <a:ext cx="33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ylakoid spac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230040" y="5410080"/>
            <a:ext cx="86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t is used by the Calvin cycle to make sugar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28240" y="3200040"/>
            <a:ext cx="8915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bel reactants and products for photosynthes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1 =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2 =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3 =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4 =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#5 =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027"/>
          <p:cNvSpPr/>
          <p:nvPr/>
        </p:nvSpPr>
        <p:spPr>
          <a:xfrm>
            <a:off x="1293840" y="4952880"/>
            <a:ext cx="28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rbon dioxid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41" name="Rectangle 1028"/>
          <p:cNvSpPr/>
          <p:nvPr/>
        </p:nvSpPr>
        <p:spPr>
          <a:xfrm>
            <a:off x="1449000" y="3733920"/>
            <a:ext cx="17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42" name="Rectangle 1029"/>
          <p:cNvSpPr/>
          <p:nvPr/>
        </p:nvSpPr>
        <p:spPr>
          <a:xfrm>
            <a:off x="1295280" y="4267080"/>
            <a:ext cx="196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43" name="Rectangle 1031"/>
          <p:cNvSpPr/>
          <p:nvPr/>
        </p:nvSpPr>
        <p:spPr>
          <a:xfrm>
            <a:off x="1524240" y="548640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UGAR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244" name="Picture 1034" descr="chloro wo labels"/>
          <p:cNvPicPr/>
          <p:nvPr/>
        </p:nvPicPr>
        <p:blipFill>
          <a:blip r:embed="rId1"/>
          <a:stretch/>
        </p:blipFill>
        <p:spPr>
          <a:xfrm>
            <a:off x="1905120" y="0"/>
            <a:ext cx="4952880" cy="33289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036"/>
          <p:cNvSpPr/>
          <p:nvPr/>
        </p:nvSpPr>
        <p:spPr>
          <a:xfrm>
            <a:off x="1373040" y="6095880"/>
            <a:ext cx="21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ght energy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molecule is broken to provide the H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o make NADP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molecule spins as H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ions pass through to the other side of the membra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688760" y="1600200"/>
            <a:ext cx="1023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524960" y="47498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TP synthas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ive the chemical symbol for the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iologically important atoms &amp; ion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rbon _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ydrogen ion 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ydrogen 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xygen 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itrogen 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osphorus 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027"/>
          <p:cNvSpPr/>
          <p:nvPr/>
        </p:nvSpPr>
        <p:spPr>
          <a:xfrm>
            <a:off x="2516040" y="25909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51" name="Rectangle 1028"/>
          <p:cNvSpPr/>
          <p:nvPr/>
        </p:nvSpPr>
        <p:spPr>
          <a:xfrm>
            <a:off x="2820600" y="3429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52" name="Rectangle 1029"/>
          <p:cNvSpPr/>
          <p:nvPr/>
        </p:nvSpPr>
        <p:spPr>
          <a:xfrm>
            <a:off x="2516040" y="4876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53" name="Rectangle 1030"/>
          <p:cNvSpPr/>
          <p:nvPr/>
        </p:nvSpPr>
        <p:spPr>
          <a:xfrm>
            <a:off x="3202560" y="56386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54" name="Rectangle 1031"/>
          <p:cNvSpPr/>
          <p:nvPr/>
        </p:nvSpPr>
        <p:spPr>
          <a:xfrm>
            <a:off x="2439360" y="39625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55" name="Rectangle 1037"/>
          <p:cNvSpPr/>
          <p:nvPr/>
        </p:nvSpPr>
        <p:spPr>
          <a:xfrm>
            <a:off x="8087400" y="2590920"/>
            <a:ext cx="6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organism is a(n) _____________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troph        heterotroph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4954680" y="685800"/>
            <a:ext cx="3729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terotroph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ungi get their energy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y absorbing nutrient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rom dead organisms.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260" name="Picture 7" descr="fungus"/>
          <p:cNvPicPr/>
          <p:nvPr/>
        </p:nvPicPr>
        <p:blipFill>
          <a:blip r:embed="rId1"/>
          <a:stretch/>
        </p:blipFill>
        <p:spPr>
          <a:xfrm>
            <a:off x="2209680" y="2590920"/>
            <a:ext cx="312444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ny enzymes have this ending on their names = 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2 factors that can affect the rate of photosynthes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 you think would happen to the rate of photosynthesis on a cloudy 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4344480" y="91440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-AS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1288440" y="3200400"/>
            <a:ext cx="62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emperature, availability of water,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d light intensity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984240" y="5791320"/>
            <a:ext cx="69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t would be slower than on a sunny day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_________________ is a molecule (like chlorophyll)  that absorbs energy and is used by green plants to absorb sun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me the two types of chlorophy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 &amp; 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27"/>
          <p:cNvSpPr/>
          <p:nvPr/>
        </p:nvSpPr>
        <p:spPr>
          <a:xfrm>
            <a:off x="1603080" y="762120"/>
            <a:ext cx="21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pigment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8" name="Rectangle 1028"/>
          <p:cNvSpPr/>
          <p:nvPr/>
        </p:nvSpPr>
        <p:spPr>
          <a:xfrm>
            <a:off x="460080" y="4191120"/>
            <a:ext cx="30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hlorophyll</a:t>
            </a: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9" name="Rectangle 1029"/>
          <p:cNvSpPr/>
          <p:nvPr/>
        </p:nvSpPr>
        <p:spPr>
          <a:xfrm>
            <a:off x="4498920" y="4038480"/>
            <a:ext cx="31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hlorophyll b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phosphate groups are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molecule of AD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rite the equation for changing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P into AT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5183280" y="1143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535320" y="3733920"/>
            <a:ext cx="54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DP + P + energy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 ATP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compounds are formed fro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rbon dioxide during the Calvin cyc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part of photosynthesis can continue at nigh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744280" y="182880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gar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2593440" y="4800600"/>
            <a:ext cx="25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lvin cycl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other name for the Calvin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are photosystem I and II ali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are they differ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448640" y="1143000"/>
            <a:ext cx="65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ight INDEPENDENT reaction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146240" y="3124080"/>
            <a:ext cx="69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oth are light dependent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oth use light to energize electrons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92160" y="5181480"/>
            <a:ext cx="398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I- splits water molecul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- NADPH is mad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organism is a(n) _____________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troph        heterotroph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4954680" y="68580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utotroph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279" name="Picture 9" descr="tree4"/>
          <p:cNvPicPr/>
          <p:nvPr/>
        </p:nvPicPr>
        <p:blipFill>
          <a:blip r:embed="rId1"/>
          <a:stretch/>
        </p:blipFill>
        <p:spPr>
          <a:xfrm>
            <a:off x="2590920" y="2666880"/>
            <a:ext cx="2887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027"/>
          <p:cNvSpPr/>
          <p:nvPr/>
        </p:nvSpPr>
        <p:spPr>
          <a:xfrm>
            <a:off x="304920" y="380880"/>
            <a:ext cx="8839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e the chemical equation for photosynthesi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+___________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__________ + __________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81" name="Text Box 1028"/>
          <p:cNvSpPr/>
          <p:nvPr/>
        </p:nvSpPr>
        <p:spPr>
          <a:xfrm>
            <a:off x="609480" y="106668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 C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7467480" y="121932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 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2448720" y="1143000"/>
            <a:ext cx="1102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 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84" name="Rectangle 1031"/>
          <p:cNvSpPr/>
          <p:nvPr/>
        </p:nvSpPr>
        <p:spPr>
          <a:xfrm>
            <a:off x="5446800" y="1143000"/>
            <a:ext cx="140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285" name="Picture 1032" descr="wkshtadpatp"/>
          <p:cNvPicPr/>
          <p:nvPr/>
        </p:nvPicPr>
        <p:blipFill>
          <a:blip r:embed="rId1"/>
          <a:srcRect l="0" t="0" r="0" b="62971"/>
          <a:stretch/>
        </p:blipFill>
        <p:spPr>
          <a:xfrm>
            <a:off x="1295280" y="2590920"/>
            <a:ext cx="6480360" cy="15238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033"/>
          <p:cNvSpPr/>
          <p:nvPr/>
        </p:nvSpPr>
        <p:spPr>
          <a:xfrm>
            <a:off x="75600" y="4371840"/>
            <a:ext cx="61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reaction shows how cells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 energy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ORE           RELEAS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87" name="Text Box 1034"/>
          <p:cNvSpPr/>
          <p:nvPr/>
        </p:nvSpPr>
        <p:spPr>
          <a:xfrm>
            <a:off x="2363760" y="487692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OR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88" name="Rectangle 1035"/>
          <p:cNvSpPr/>
          <p:nvPr/>
        </p:nvSpPr>
        <p:spPr>
          <a:xfrm>
            <a:off x="4191840" y="6613560"/>
            <a:ext cx="466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: BIOLOGY by Miller and Levine; Prentice Hall Publishing©2006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026"/>
          <p:cNvSpPr/>
          <p:nvPr/>
        </p:nvSpPr>
        <p:spPr>
          <a:xfrm>
            <a:off x="304920" y="304920"/>
            <a:ext cx="883908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 which molecule the H in NADPH originally comes from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6600" spc="-1" strike="noStrike">
                <a:solidFill>
                  <a:srgbClr val="ff3399"/>
                </a:solidFill>
                <a:latin typeface="Times New Roman"/>
              </a:rPr>
              <a:t>H</a:t>
            </a:r>
            <a:endParaRPr b="0" lang="en-US" sz="6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800"/>
            </a:b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90" name="Text Box 1029"/>
          <p:cNvSpPr/>
          <p:nvPr/>
        </p:nvSpPr>
        <p:spPr>
          <a:xfrm>
            <a:off x="2744640" y="3200400"/>
            <a:ext cx="3826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mes from 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when water is split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91" name="Line 1033"/>
          <p:cNvSpPr/>
          <p:nvPr/>
        </p:nvSpPr>
        <p:spPr>
          <a:xfrm flipV="1">
            <a:off x="4876920" y="22093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304920" y="304920"/>
            <a:ext cx="88390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imal cells store their glucose 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 _______________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h           Glycogen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1219320" y="8380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lycogen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75240" y="4371840"/>
            <a:ext cx="626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reaction shows how cells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  energy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ORE             RELEAS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95" name="Text Box 12"/>
          <p:cNvSpPr/>
          <p:nvPr/>
        </p:nvSpPr>
        <p:spPr>
          <a:xfrm>
            <a:off x="2363040" y="480060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LEAS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296" name="Picture 13" descr="wkshtadpatp"/>
          <p:cNvPicPr/>
          <p:nvPr/>
        </p:nvPicPr>
        <p:blipFill>
          <a:blip r:embed="rId1"/>
          <a:srcRect l="0" t="55559" r="0" b="9260"/>
          <a:stretch/>
        </p:blipFill>
        <p:spPr>
          <a:xfrm>
            <a:off x="1066680" y="2819520"/>
            <a:ext cx="6480360" cy="1447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4"/>
          <p:cNvSpPr/>
          <p:nvPr/>
        </p:nvSpPr>
        <p:spPr>
          <a:xfrm>
            <a:off x="2515320" y="2743200"/>
            <a:ext cx="466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: BIOLOGY by Miller and Levine; Prentice Hall Publishing</a:t>
            </a:r>
            <a:r>
              <a:rPr b="1" lang="en-US" sz="1000" spc="-1" strike="noStrike">
                <a:solidFill>
                  <a:srgbClr val="cc0099"/>
                </a:solidFill>
                <a:latin typeface="Arial"/>
                <a:ea typeface="Times New Roman"/>
              </a:rPr>
              <a:t>©2006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298" name="Picture 15" descr="glycogen6"/>
          <p:cNvPicPr/>
          <p:nvPr/>
        </p:nvPicPr>
        <p:blipFill>
          <a:blip r:embed="rId2"/>
          <a:srcRect l="0" t="0" r="0" b="12159"/>
          <a:stretch/>
        </p:blipFill>
        <p:spPr>
          <a:xfrm>
            <a:off x="6477120" y="228600"/>
            <a:ext cx="2342880" cy="21337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16"/>
          <p:cNvSpPr/>
          <p:nvPr/>
        </p:nvSpPr>
        <p:spPr>
          <a:xfrm>
            <a:off x="4647960" y="-720"/>
            <a:ext cx="431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academic.brooklyn.cuny.edu/biology/bio4fv/page/glycogen.jpg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026"/>
          <p:cNvSpPr/>
          <p:nvPr/>
        </p:nvSpPr>
        <p:spPr>
          <a:xfrm>
            <a:off x="828000" y="4572000"/>
            <a:ext cx="540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= ______________________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= ______________________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01" name="Text Box 1027"/>
          <p:cNvSpPr/>
          <p:nvPr/>
        </p:nvSpPr>
        <p:spPr>
          <a:xfrm>
            <a:off x="304920" y="2286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el A and B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02" name="Rectangle 1029"/>
          <p:cNvSpPr/>
          <p:nvPr/>
        </p:nvSpPr>
        <p:spPr>
          <a:xfrm>
            <a:off x="1981080" y="4572000"/>
            <a:ext cx="68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ylakoid space (space inside thylakoid sac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03" name="Text Box 1031"/>
          <p:cNvSpPr/>
          <p:nvPr/>
        </p:nvSpPr>
        <p:spPr>
          <a:xfrm>
            <a:off x="1906920" y="5562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om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04" name="Rectangle 1032"/>
          <p:cNvSpPr/>
          <p:nvPr/>
        </p:nvSpPr>
        <p:spPr>
          <a:xfrm>
            <a:off x="4191840" y="6613560"/>
            <a:ext cx="466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: BIOLOGY by Miller and Levine; Prentice Hall Publishing©2006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305" name="Picture 1034" descr="lite dep rxn a b"/>
          <p:cNvPicPr/>
          <p:nvPr/>
        </p:nvPicPr>
        <p:blipFill>
          <a:blip r:embed="rId1"/>
          <a:stretch/>
        </p:blipFill>
        <p:spPr>
          <a:xfrm>
            <a:off x="380880" y="762120"/>
            <a:ext cx="73152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379440" y="4495680"/>
            <a:ext cx="8332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(individual membrane sac) = _________________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(space inside the sac) = _____________________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(stack) = __________________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(space surrounding the sacs) = ________________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(space outside the chloroplast) = ________________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307" name="Picture 11" descr="wksht chloro1 AB"/>
          <p:cNvPicPr/>
          <p:nvPr/>
        </p:nvPicPr>
        <p:blipFill>
          <a:blip r:embed="rId1"/>
          <a:stretch/>
        </p:blipFill>
        <p:spPr>
          <a:xfrm>
            <a:off x="838080" y="152280"/>
            <a:ext cx="7372440" cy="43545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304920" y="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el the parts of this chloroplast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2593800" y="5334120"/>
            <a:ext cx="317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ranum (pl. grana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344480" y="487692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ylakoid spac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5487120" y="449568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ylakoid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4191840" y="6613560"/>
            <a:ext cx="466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: BIOLOGY by Miller and Levine; Prentice Hall Publishing©2006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5793120" y="5715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om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6021000" y="6172200"/>
            <a:ext cx="17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ytoplasm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304920" y="304920"/>
            <a:ext cx="88390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nt cells store their glucose 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 _______________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h           Glycogen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1219320" y="8380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arch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75240" y="4371840"/>
            <a:ext cx="626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reaction shows how cells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  energy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ORE             RELEAS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2363040" y="480060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LEASE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319" name="Picture 6" descr="wkshtadpatp"/>
          <p:cNvPicPr/>
          <p:nvPr/>
        </p:nvPicPr>
        <p:blipFill>
          <a:blip r:embed="rId1"/>
          <a:srcRect l="0" t="55559" r="0" b="9260"/>
          <a:stretch/>
        </p:blipFill>
        <p:spPr>
          <a:xfrm>
            <a:off x="1066680" y="2819520"/>
            <a:ext cx="6480360" cy="14475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7"/>
          <p:cNvSpPr/>
          <p:nvPr/>
        </p:nvSpPr>
        <p:spPr>
          <a:xfrm>
            <a:off x="3048840" y="2743200"/>
            <a:ext cx="466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: BIOLOGY by Miller and Levine; Prentice Hall Publishing</a:t>
            </a:r>
            <a:r>
              <a:rPr b="1" lang="en-US" sz="1000" spc="-1" strike="noStrike">
                <a:solidFill>
                  <a:srgbClr val="cc0099"/>
                </a:solidFill>
                <a:latin typeface="Arial"/>
                <a:ea typeface="Times New Roman"/>
              </a:rPr>
              <a:t>©2006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321" name="Picture 9" descr="starch"/>
          <p:cNvPicPr/>
          <p:nvPr/>
        </p:nvPicPr>
        <p:blipFill>
          <a:blip r:embed="rId2"/>
          <a:srcRect l="0" t="34015" r="0" b="0"/>
          <a:stretch/>
        </p:blipFill>
        <p:spPr>
          <a:xfrm>
            <a:off x="5181480" y="990720"/>
            <a:ext cx="3463920" cy="7398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0"/>
          <p:cNvSpPr/>
          <p:nvPr/>
        </p:nvSpPr>
        <p:spPr>
          <a:xfrm>
            <a:off x="5258880" y="1751760"/>
            <a:ext cx="361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bioweb.wku.edu/courses/Biol115/Wyatt/default.htm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4120" y="1447560"/>
            <a:ext cx="36576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051"/>
          <p:cNvSpPr/>
          <p:nvPr/>
        </p:nvSpPr>
        <p:spPr>
          <a:xfrm>
            <a:off x="457200" y="502920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lue-violet and red wavelengths 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62" name="Picture 2052" descr=""/>
          <p:cNvPicPr/>
          <p:nvPr/>
        </p:nvPicPr>
        <p:blipFill>
          <a:blip r:embed="rId1"/>
          <a:srcRect l="0" t="0" r="0" b="14088"/>
          <a:stretch/>
        </p:blipFill>
        <p:spPr>
          <a:xfrm>
            <a:off x="0" y="0"/>
            <a:ext cx="5257800" cy="4648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053"/>
          <p:cNvSpPr/>
          <p:nvPr/>
        </p:nvSpPr>
        <p:spPr>
          <a:xfrm>
            <a:off x="2514960" y="2209680"/>
            <a:ext cx="13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4" name="Rectangle 2054"/>
          <p:cNvSpPr/>
          <p:nvPr/>
        </p:nvSpPr>
        <p:spPr>
          <a:xfrm>
            <a:off x="2286000" y="1676520"/>
            <a:ext cx="13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lorophy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5" name="Text Box 2055"/>
          <p:cNvSpPr/>
          <p:nvPr/>
        </p:nvSpPr>
        <p:spPr>
          <a:xfrm>
            <a:off x="457200" y="0"/>
            <a:ext cx="41148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ption of Light by</a:t>
            </a:r>
            <a:endParaRPr b="0" lang="en-US" sz="1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lorophy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Chlorophy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6" name="Text Box 2058"/>
          <p:cNvSpPr/>
          <p:nvPr/>
        </p:nvSpPr>
        <p:spPr>
          <a:xfrm>
            <a:off x="5715000" y="380880"/>
            <a:ext cx="3429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earson Education, Inc. Publishing as</a:t>
            </a:r>
            <a:endParaRPr b="0" lang="en-US" sz="1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arson Prentice-Hall.  All rights reserved.</a:t>
            </a:r>
            <a:endParaRPr b="0" lang="en-US" sz="1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7" name="Rectangle 2059"/>
          <p:cNvSpPr/>
          <p:nvPr/>
        </p:nvSpPr>
        <p:spPr>
          <a:xfrm>
            <a:off x="5332320" y="1193760"/>
            <a:ext cx="366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 wavelengths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light do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lorophyll a and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lorophyll b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orb best? </a:t>
            </a:r>
            <a:br>
              <a:rPr sz="3200"/>
            </a:b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molecules of 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are needed to make 1 molecule of gluco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rite the equation showing how NAD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becomes NADP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027"/>
          <p:cNvSpPr/>
          <p:nvPr/>
        </p:nvSpPr>
        <p:spPr>
          <a:xfrm>
            <a:off x="3278160" y="1676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25" name="Rectangle 1028"/>
          <p:cNvSpPr/>
          <p:nvPr/>
        </p:nvSpPr>
        <p:spPr>
          <a:xfrm>
            <a:off x="171000" y="4394160"/>
            <a:ext cx="88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DP 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+   high energy e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+   H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on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 NADPH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8"/>
          <p:cNvSpPr/>
          <p:nvPr/>
        </p:nvSpPr>
        <p:spPr>
          <a:xfrm>
            <a:off x="757800" y="3733920"/>
            <a:ext cx="564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bel the parts of this molecul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= ______________________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= ______________________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= ______________________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304920" y="3808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is molecule used to store and transport energy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752480" y="9144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P-adenosine triphosphat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1982880" y="457200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denin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1983240" y="5715000"/>
            <a:ext cx="28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hosphate group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982520" y="518148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ibose sugar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4191840" y="6613560"/>
            <a:ext cx="466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: BIOLOGY by Miller and Levine; Prentice Hall Publishing©2006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333" name="Picture 11" descr="wksht ATP abc"/>
          <p:cNvPicPr/>
          <p:nvPr/>
        </p:nvPicPr>
        <p:blipFill>
          <a:blip r:embed="rId1"/>
          <a:srcRect l="0" t="19039" r="0" b="11168"/>
          <a:stretch/>
        </p:blipFill>
        <p:spPr>
          <a:xfrm>
            <a:off x="2209680" y="1676520"/>
            <a:ext cx="441972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3"/>
          <p:cNvSpPr/>
          <p:nvPr/>
        </p:nvSpPr>
        <p:spPr>
          <a:xfrm>
            <a:off x="304920" y="304920"/>
            <a:ext cx="883908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 which molecule each of the atoms that end up in glucose originally came from: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600" spc="-1" strike="noStrike">
                <a:solidFill>
                  <a:srgbClr val="33cc33"/>
                </a:solidFill>
                <a:latin typeface="Times New Roman"/>
              </a:rPr>
              <a:t>C</a:t>
            </a:r>
            <a:r>
              <a:rPr b="1" lang="en-US" sz="6600" spc="-1" strike="noStrike" baseline="-25000">
                <a:solidFill>
                  <a:srgbClr val="33cc33"/>
                </a:solidFill>
                <a:latin typeface="Times New Roman"/>
              </a:rPr>
              <a:t>6</a:t>
            </a:r>
            <a:r>
              <a:rPr b="1" lang="en-US" sz="6600" spc="-1" strike="noStrike">
                <a:solidFill>
                  <a:srgbClr val="ff3399"/>
                </a:solidFill>
                <a:latin typeface="Times New Roman"/>
              </a:rPr>
              <a:t>H</a:t>
            </a:r>
            <a:r>
              <a:rPr b="1" lang="en-US" sz="6600" spc="-1" strike="noStrike" baseline="-25000">
                <a:solidFill>
                  <a:srgbClr val="ff3399"/>
                </a:solidFill>
                <a:latin typeface="Times New Roman"/>
              </a:rPr>
              <a:t>12</a:t>
            </a:r>
            <a:r>
              <a:rPr b="1" lang="en-US" sz="6600" spc="-1" strike="noStrike">
                <a:solidFill>
                  <a:srgbClr val="800080"/>
                </a:solidFill>
                <a:latin typeface="Times New Roman"/>
              </a:rPr>
              <a:t>O</a:t>
            </a:r>
            <a:r>
              <a:rPr b="1" lang="en-US" sz="6600" spc="-1" strike="noStrike" baseline="-25000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6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    ________     _________</a:t>
            </a:r>
            <a:br>
              <a:rPr sz="2800"/>
            </a:b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764000" y="3505320"/>
            <a:ext cx="999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O</a:t>
            </a:r>
            <a:r>
              <a:rPr b="1" lang="en-US" sz="3600" spc="-1" strike="noStrike" baseline="-25000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5117040" y="3406680"/>
            <a:ext cx="999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O</a:t>
            </a:r>
            <a:r>
              <a:rPr b="1" lang="en-US" sz="3600" spc="-1" strike="noStrike" baseline="-25000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3364920" y="3505320"/>
            <a:ext cx="1023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38" name="Line 10"/>
          <p:cNvSpPr/>
          <p:nvPr/>
        </p:nvSpPr>
        <p:spPr>
          <a:xfrm flipV="1">
            <a:off x="2133720" y="26665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39" name="Line 11"/>
          <p:cNvSpPr/>
          <p:nvPr/>
        </p:nvSpPr>
        <p:spPr>
          <a:xfrm flipH="1" flipV="1">
            <a:off x="3581280" y="274284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40" name="Line 12"/>
          <p:cNvSpPr/>
          <p:nvPr/>
        </p:nvSpPr>
        <p:spPr>
          <a:xfrm flipH="1" flipV="1">
            <a:off x="4724280" y="266652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showed Priestle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 experiment on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ked if the pl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t l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4640" y="2362320"/>
            <a:ext cx="358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Jan Ingenhousz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70" name="Text Box 1028"/>
          <p:cNvSpPr/>
          <p:nvPr/>
        </p:nvSpPr>
        <p:spPr>
          <a:xfrm>
            <a:off x="685800" y="3733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71" name="Text Box 1029"/>
          <p:cNvSpPr/>
          <p:nvPr/>
        </p:nvSpPr>
        <p:spPr>
          <a:xfrm>
            <a:off x="457200" y="5562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lvin Calvin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72" name="Text Box 1030"/>
          <p:cNvSpPr/>
          <p:nvPr/>
        </p:nvSpPr>
        <p:spPr>
          <a:xfrm>
            <a:off x="232920" y="3733920"/>
            <a:ext cx="675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 earned the Nobel prize for 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termining the biochemical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thway used to make glucose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73" name="Rectangle 1031"/>
          <p:cNvSpPr/>
          <p:nvPr/>
        </p:nvSpPr>
        <p:spPr>
          <a:xfrm>
            <a:off x="228240" y="6247800"/>
            <a:ext cx="46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nobelprize.org/nobel_prizes/chemistry/laureates/1961/calvin-bio.html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74" name="Rectangle 1033"/>
          <p:cNvSpPr/>
          <p:nvPr/>
        </p:nvSpPr>
        <p:spPr>
          <a:xfrm>
            <a:off x="5410080" y="29718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Times New Roman"/>
              </a:rPr>
              <a:t>http://www2.nsta.org/Energy/find/primer/primer2_8.html</a:t>
            </a:r>
            <a:endParaRPr b="0" lang="en-US" sz="10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75" name="Picture 1035" descr="ingenhousz dark"/>
          <p:cNvPicPr/>
          <p:nvPr/>
        </p:nvPicPr>
        <p:blipFill>
          <a:blip r:embed="rId1"/>
          <a:stretch/>
        </p:blipFill>
        <p:spPr>
          <a:xfrm>
            <a:off x="5410080" y="990720"/>
            <a:ext cx="3108600" cy="198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37" descr="Melvin Calvin"/>
          <p:cNvPicPr/>
          <p:nvPr/>
        </p:nvPicPr>
        <p:blipFill>
          <a:blip r:embed="rId2"/>
          <a:stretch/>
        </p:blipFill>
        <p:spPr>
          <a:xfrm>
            <a:off x="7391520" y="4343400"/>
            <a:ext cx="16002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0" t="0" r="0" b="13512"/>
          <a:stretch/>
        </p:blipFill>
        <p:spPr>
          <a:xfrm>
            <a:off x="0" y="0"/>
            <a:ext cx="5479920" cy="4876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360" y="1676520"/>
            <a:ext cx="13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514960" y="2438280"/>
            <a:ext cx="13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073160" y="0"/>
            <a:ext cx="33458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ption of Light by</a:t>
            </a:r>
            <a:endParaRPr b="0" lang="en-US" sz="1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lorophy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Chlorophy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638680" y="3809880"/>
            <a:ext cx="335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ey do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not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bsorb green light.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5561280" y="1066680"/>
            <a:ext cx="372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wavelength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light doe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lorophyll a and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lorophyll b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orb the least?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 flipV="1">
            <a:off x="1828800" y="3962160"/>
            <a:ext cx="53352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84" name="Line 9"/>
          <p:cNvSpPr/>
          <p:nvPr/>
        </p:nvSpPr>
        <p:spPr>
          <a:xfrm flipV="1">
            <a:off x="2057400" y="4038480"/>
            <a:ext cx="533520" cy="2362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 flipV="1">
            <a:off x="2362320" y="3962160"/>
            <a:ext cx="53316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5562720" y="380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Pearson Education, Inc. Publishing as</a:t>
            </a:r>
            <a:endParaRPr b="0" lang="en-US" sz="1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rson Prentice-Hall.  All rights reserved.</a:t>
            </a:r>
            <a:endParaRPr b="0" lang="en-US" sz="1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the molecule used by living things to store and transfer energy =___________________________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27"/>
          <p:cNvSpPr/>
          <p:nvPr/>
        </p:nvSpPr>
        <p:spPr>
          <a:xfrm>
            <a:off x="1673640" y="1752480"/>
            <a:ext cx="51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/adenosine triphosphat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89" name="Text Box 1028"/>
          <p:cNvSpPr/>
          <p:nvPr/>
        </p:nvSpPr>
        <p:spPr>
          <a:xfrm>
            <a:off x="228600" y="289548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scientist further investigated Joseph Priestl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plant under the bell jar experiment. 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etermined that light was needed to generate oxygen.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90" name="Text Box 1029"/>
          <p:cNvSpPr/>
          <p:nvPr/>
        </p:nvSpPr>
        <p:spPr>
          <a:xfrm>
            <a:off x="2971800" y="4724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Jan Ingenhousz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 of chemical reactions in which the product of one reaction goes on to be the reactant in the next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92520" y="1828800"/>
            <a:ext cx="430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iochemical pathway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3429000"/>
            <a:ext cx="88390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words to fill in the overall chemical reaction for photosynthesis.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+___________                  __________ + __________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94" name="Picture 8" descr="sunlight paint"/>
          <p:cNvPicPr/>
          <p:nvPr/>
        </p:nvPicPr>
        <p:blipFill>
          <a:blip r:embed="rId1"/>
          <a:stretch/>
        </p:blipFill>
        <p:spPr>
          <a:xfrm>
            <a:off x="4038480" y="4038480"/>
            <a:ext cx="1371600" cy="1144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457200" y="419112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arbon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ioxide            water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5334120" y="4648320"/>
            <a:ext cx="32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gars          oxygen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9:30:30Z</dcterms:created>
  <dc:creator>kriedell</dc:creator>
  <dc:description/>
  <dc:language>en-US</dc:language>
  <cp:lastModifiedBy>Dustin Zahm</cp:lastModifiedBy>
  <dcterms:modified xsi:type="dcterms:W3CDTF">2014-02-21T18:44:07Z</dcterms:modified>
  <cp:revision>126</cp:revision>
  <dc:subject/>
  <dc:title>asdfs</dc:title>
</cp:coreProperties>
</file>